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6036-D9B9-4A9E-855C-4A0D7838C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2747-F90F-414B-83FC-84BD966DF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E39E-7B36-403E-AC9B-7B012E7AB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1551-C9EE-4612-A7EB-1337DEC3D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CDD6-8E7E-496D-9236-B8934EC5A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CD9F-0790-4C8B-A809-E9202459F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42B4-D92F-46D3-943B-43C6D5C5D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C4A8-6D2B-4E00-9188-37A736266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22AF-7F4E-427E-924A-2B1770991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ED1D-1FE5-4C16-A444-D82ABDC87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A62E-077B-461F-BD13-CF61A1411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918A-B51B-48D8-BA5F-0BC2E345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>
              <a:alpha val="7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>
              <a:alpha val="72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1DD58-100F-44D0-B938-E982673A4C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ff">
              <a:alpha val="7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ise of Stal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solidFill>
            <a:srgbClr val="ffffff">
              <a:alpha val="72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: To understand how Stalin was able to rise to power in the USS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</a:rPr>
              <a:t>Starter activity: Dustbin game on Lenin’s Russ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>
              <a:alpha val="7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was Stal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>
              <a:alpha val="72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name: Joseph Dzhugashvi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rn: Georgia 1878 or 187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ing class: mother was a seamstress and father was a shoema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dicated Bolshevik, very loyal to Len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issar for Nationalities after October Rev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ointed ‘General Secretary’ of the Communist Party in 19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solidFill>
            <a:srgbClr val="ffffff">
              <a:alpha val="7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would succeed Len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>
              <a:alpha val="72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he death of Lenin on 21st Jan 1924 the Party declared it would rule by committee - the key members working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 it was clear that already a power struggle was emerging: who would w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>
              <a:alpha val="7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id Lenin thin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>
              <a:alpha val="72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Lenin’s last will and testa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he title ‘Lenins last will and testament’ on a piece of paper and attempt the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>
              <a:alpha val="7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en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>
              <a:alpha val="72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think the impact of the Last Will and Testament would be on the chances of Stalin and Trotsky if it was made publ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nin wanted it to be read out at the party conference after his death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has the most to gain from covering it u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ulwich</cp:lastModifiedBy>
  <dcterms:modified xsi:type="dcterms:W3CDTF">2007-11-16T07:33:01Z</dcterms:modified>
  <cp:revision>1</cp:revision>
  <dc:subject/>
  <dc:title>The Rise of Stalin</dc:title>
</cp:coreProperties>
</file>